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CCE5-E920-4477-8630-83DDC7DCE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3018E-755D-42E2-90EF-9FCA955A97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4390D-C109-42DF-BAE1-BC79042BD9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2F5A8-164E-44D9-8097-52FB3715AC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74F2A-609F-4946-B452-AA6F84056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F3F8B-56BB-44C5-AA15-3A7982579C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DD81B-29F5-4E6E-8BDA-9632CA5FBB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4743B-FC20-4B63-8EFC-2A95D1E08F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4BFA3-4ABB-4B37-957C-1CFD2609E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D6235-13E5-49BF-93DF-956A160098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0695A-DF36-4506-858D-4877B299F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5981D-08C9-4C55-AED5-62615ABB5A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C0987-575D-4AE1-AEDE-F6C2B7A90C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99F86-F992-45B0-AB37-C28224F71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50489-83BF-437C-86BE-723ECA684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C6DDF-6992-44D3-B12E-FE7CB4B3C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F87-F5D3-4EBB-8396-872505DE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E9F-96F8-4736-B602-604E94C8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11D-F1B9-4073-BD55-E28C18FD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01D-E6F6-4731-8BAC-D07719B4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E09-89E2-4DFF-8919-7041A82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9C8-A882-4E2A-B1A9-4412473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017-7E73-4059-BC0A-B0B0D9A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E7C-438C-4200-A230-9E7D23D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89C-8CC1-49C3-8199-2E36CFB4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CCF-6E4F-46E4-B3C2-8BA6E8B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7F8-CC72-47BB-AFA3-94F3766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D48-FB0B-48EF-9E3B-B81C1C2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9B48D4-8BFE-4AB0-A9DB-150CF324BD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792360" y="475920"/>
            <a:ext cx="835164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Mistral"/>
              </a:rPr>
              <a:t>Презентация на тему</a:t>
            </a: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Mistral"/>
              </a:rPr>
              <a:t>«Виды семей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40360" y="5400360"/>
            <a:ext cx="3959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99ff"/>
                </a:solidFill>
                <a:latin typeface="Comic Sans MS"/>
              </a:rPr>
              <a:t>Подготовила ученица 11 класса «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99ff"/>
                </a:solidFill>
                <a:latin typeface="Comic Sans MS"/>
              </a:rPr>
              <a:t>Родченкова Ма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580000" y="1833480"/>
            <a:ext cx="3921120" cy="3567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3caff"/>
                </a:solidFill>
                <a:latin typeface="Segoe Print"/>
              </a:rPr>
              <a:t>Типы вос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Comic Sans MS"/>
              </a:rPr>
              <a:t>Авторита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Comic Sans MS"/>
              </a:rPr>
              <a:t>Либер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Comic Sans MS"/>
              </a:rPr>
              <a:t>Демократ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400720" y="2160720"/>
            <a:ext cx="414000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Comic Sans MS"/>
              </a:rPr>
              <a:t>Авторитарный тип вос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angSong"/>
              </a:rPr>
              <a:t>Основывается на авторитете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700360"/>
            <a:ext cx="3192120" cy="4317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5600"/>
            <a:ext cx="100807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GungsuhChe"/>
              </a:rPr>
              <a:t>Либеральный тип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800360"/>
            <a:ext cx="50403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2fff0"/>
                </a:solidFill>
                <a:latin typeface="Monotype Corsiva"/>
              </a:rPr>
              <a:t>Строится на самоопределении личности,независимо от традиций,привы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9240" y="2333520"/>
            <a:ext cx="374004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</a:rPr>
              <a:t>Демократический тип воспит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4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ef9f4"/>
                </a:solidFill>
                <a:latin typeface="Segoe Print"/>
              </a:rPr>
              <a:t>Постепенно прививает ребенку такие черты, как например сопричастность к судьбам друг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580000" y="3959280"/>
            <a:ext cx="395928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539280"/>
            <a:ext cx="907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ef9f4"/>
                </a:solidFill>
                <a:latin typeface="Segoe Print"/>
              </a:rPr>
              <a:t>Всероссийский  день семьи,любви и верности празднуется  </a:t>
            </a:r>
            <a:r>
              <a:rPr b="0" lang="ru-RU" sz="4000" spc="-1" strike="noStrike">
                <a:solidFill>
                  <a:srgbClr val="85ffe0"/>
                </a:solidFill>
                <a:latin typeface="Segoe Print"/>
              </a:rPr>
              <a:t>8 ию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580000" y="3419640"/>
            <a:ext cx="4140360" cy="36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2519280" y="270036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Mistr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519280" y="1979640"/>
            <a:ext cx="5238720" cy="3476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Comic Sans MS"/>
              </a:rPr>
              <a:t>Семья э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362520" indent="-271800">
              <a:lnSpc>
                <a:spcPct val="102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edf"/>
                </a:solidFill>
                <a:latin typeface="Monotype Corsiva"/>
              </a:rPr>
              <a:t>организованная социальная группа, члены которой связаны общностью быта, взаимной моральной ответственностью и социальной необходимостью, которая обусловлена потребностью общества в физическом и духовном самовоспроизвод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2520" indent="-271800">
              <a:lnSpc>
                <a:spcPct val="102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edf"/>
                </a:solidFill>
                <a:latin typeface="Monotype Corsiva"/>
              </a:rPr>
              <a:t>Для ребёнка - это среда, в которой складываются условия его физического, психического, эмоционального и интеллектуаль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709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e6e6e6"/>
                </a:solidFill>
                <a:latin typeface="Mistral"/>
              </a:rPr>
              <a:t>Признаки семь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3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Segoe Script"/>
              </a:rPr>
              <a:t>Число детей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Segoe Script"/>
              </a:rPr>
              <a:t>Характеристика распределения домашних обяза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Segoe Script"/>
              </a:rPr>
              <a:t>Родств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Segoe Script"/>
              </a:rPr>
              <a:t>Тип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Comic Sans MS"/>
              </a:rPr>
              <a:t>Признак семьи по числ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46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Segoe Print"/>
              </a:rPr>
              <a:t>Многодетная:3 и боле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6000"/>
              </a:lnSpc>
              <a:spcAft>
                <a:spcPts val="1426"/>
              </a:spcAft>
              <a:buSzPct val="102872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Segoe Print"/>
              </a:rPr>
              <a:t>Малодетная:1-2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6000"/>
              </a:lnSpc>
              <a:spcAft>
                <a:spcPts val="1426"/>
              </a:spcAft>
              <a:buSzPct val="102872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Segoe Print"/>
              </a:rPr>
              <a:t>Безде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5"/>
          <a:stretch/>
        </p:blipFill>
        <p:spPr>
          <a:xfrm>
            <a:off x="4859280" y="3419640"/>
            <a:ext cx="2879640" cy="210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6"/>
          <a:stretch/>
        </p:blipFill>
        <p:spPr>
          <a:xfrm>
            <a:off x="3240000" y="4211640"/>
            <a:ext cx="2683080" cy="22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7"/>
          <a:stretch/>
        </p:blipFill>
        <p:spPr>
          <a:xfrm>
            <a:off x="7610400" y="1440000"/>
            <a:ext cx="2108160" cy="334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8"/>
          <a:stretch/>
        </p:blipFill>
        <p:spPr>
          <a:xfrm>
            <a:off x="720720" y="4859280"/>
            <a:ext cx="251928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403200"/>
            <a:ext cx="989964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Monotype Corsiva"/>
              </a:rPr>
              <a:t>Характеристика распределения домашних обязанн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648000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eedf"/>
                </a:solidFill>
                <a:latin typeface="Segoe Script"/>
              </a:rPr>
              <a:t>Тради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Segoe Script"/>
              </a:rPr>
              <a:t>(домашние обязанности выполняет в основном женщина,но ответственность за семью перед обществом несет мужчина,ему принадлежит основная 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eedf"/>
                </a:solidFill>
                <a:latin typeface="Segoe Script"/>
              </a:rPr>
              <a:t>Коллективис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Segoe Script"/>
              </a:rPr>
              <a:t>(обязанности выполняются совместно или по оч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6037200" y="2879640"/>
            <a:ext cx="3683160" cy="329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Comic Sans MS"/>
              </a:rPr>
              <a:t>Родствен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704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S Gothic"/>
              </a:rPr>
              <a:t>Нуклеа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S Gothic"/>
              </a:rPr>
              <a:t>Расшир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S Gothic"/>
              </a:rPr>
              <a:t>Полигам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5219640" y="3600360"/>
            <a:ext cx="450072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4c"/>
                </a:solidFill>
                <a:latin typeface="Gungsuh"/>
              </a:rPr>
              <a:t>Нуклеарная семь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215280" cy="9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Monotype Corsiva"/>
              </a:rPr>
              <a:t>семья, состоящая из одной брачной пары и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982960" y="2519280"/>
            <a:ext cx="47577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8080"/>
                </a:solidFill>
                <a:latin typeface="Comic Sans MS"/>
              </a:rPr>
              <a:t>Расширенна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5616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3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Segoe Script"/>
              </a:rPr>
              <a:t>Супружеская пара с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Segoe Script"/>
              </a:rPr>
              <a:t>супружеская пара с детьми и кто-то из родственников,проживающих с 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6119640" y="1619280"/>
            <a:ext cx="340704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Monotype Corsiva"/>
              </a:rPr>
              <a:t>Полигамная 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0040" bIns="0" anchor="t">
            <a:normAutofit/>
          </a:bodyPr>
          <a:p>
            <a:pPr marL="431640" indent="-32364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cc"/>
                </a:solidFill>
                <a:latin typeface="Courier New"/>
              </a:rPr>
              <a:t>Одновременное состояние мужчины в браке с несколькими женщи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790640" y="3071880"/>
            <a:ext cx="4687920" cy="3587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05:54Z</dcterms:created>
  <dc:creator/>
  <dc:description/>
  <dc:language>en-US</dc:language>
  <cp:lastModifiedBy>Vlad</cp:lastModifiedBy>
  <dcterms:modified xsi:type="dcterms:W3CDTF">2012-04-15T11:19:10Z</dcterms:modified>
  <cp:revision>9</cp:revision>
  <dc:subject/>
  <dc:title>Розы</dc:title>
</cp:coreProperties>
</file>